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FBF-6F67-43E2-A558-EBB6D57F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CD4-1C81-4F95-BA93-25659A89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5D7-9157-456D-9C01-8ED17BB7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84D-7167-477A-A9C6-EC2055E3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AD2-B265-45C8-A1E4-8741FB0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DF7-FDA0-48B5-B025-6861CE61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5BC-F23E-4348-AB3F-AB188D1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824-D3CD-4274-A13A-8E4D9EF6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43B-F9B3-4277-A8B1-3334D82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83F-4466-4F60-9C5E-3341A86D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271-CDC6-439E-ADBE-0C07FF9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7CB-2577-4DDE-9BCC-C229DBC6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EDC5-1BF7-499F-B225-4D9998E52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Dreptunghi 2"/>
          <p:cNvSpPr/>
          <p:nvPr/>
        </p:nvSpPr>
        <p:spPr>
          <a:xfrm>
            <a:off x="1219320" y="838080"/>
            <a:ext cx="56386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OLUAREA-O PROBLEM</a:t>
            </a: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Ă VITALĂ A LUMII MOD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ofesor Cer</a:t>
            </a: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eanu Corn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c0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xiste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 planetei noastre este ameni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a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de tot felul de fenomene specifice civiliza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ei moderne, care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 evolu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a ei c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re progres, r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â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e co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ent sau inco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ent indife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n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la ur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ile cuceririlor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iin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ei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 tehnicii moderne, astfel c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aceste ur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i sunt destul de v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toare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i chiar fatale P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â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tul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ociet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e moderne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ep s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realizeze c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nt pe cale nu numai de a-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distruge mediul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onjurator, dar chiar de a-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submina propriul vii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arte pu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e guverne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ge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 pentru dezvoltare din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treaga lume au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cercat s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schimbe sensul acestor tendi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 ameni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o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ipuri de 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irit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fibroz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alergen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lu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 organici cancerig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incipalele surse de poluare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d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nsportur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rup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ile vulca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rtunile de pr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ncendiile natu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tivit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le cas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alva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 planet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ubstan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 poluante din atmosfer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oxidul de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a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enu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um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onoxidul de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ioxidul de s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xizii azot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mog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08:04:16Z</dcterms:created>
  <dc:creator>user</dc:creator>
  <dc:description/>
  <dc:language>en-US</dc:language>
  <cp:lastModifiedBy>user</cp:lastModifiedBy>
  <dcterms:modified xsi:type="dcterms:W3CDTF">2012-04-11T08:04:44Z</dcterms:modified>
  <cp:revision>1</cp:revision>
  <dc:subject/>
  <dc:title>Diapozitivul 1</dc:title>
</cp:coreProperties>
</file>